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A2A-5FD6-4290-8D17-1FCCD39D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B0F-6064-4251-9783-A4812C47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E15-A8C4-4C11-BD07-0CF50577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DF1-DDA3-4E9B-8ACB-68FDA1F5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8C4-13AA-4B43-9C74-62D16ABF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F4D-335C-47CF-BFA7-BF87D261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570-01AE-454B-BA9F-80A3B795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361-3677-4699-977B-1D994725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D31-D363-43F9-BBDF-AA177F9A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2E4-B1B3-4376-AD28-D7809C4A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DAD-68A0-4B49-85BC-FF244249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7E6-B30F-444A-8698-09864CEE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E41D-9D21-4F4A-8B5E-1A30F4933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8185442zVehBggLgs_ph" descr=""/>
          <p:cNvPicPr/>
          <p:nvPr/>
        </p:nvPicPr>
        <p:blipFill>
          <a:blip r:embed="rId1"/>
          <a:stretch/>
        </p:blipFill>
        <p:spPr>
          <a:xfrm>
            <a:off x="0" y="0"/>
            <a:ext cx="5694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15000" y="1066680"/>
            <a:ext cx="3429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رنّمي أيتها السمواتُ وابتهجي أيتها الأرضُ واندفعي بالترنيمِ أيتها الجبال</a:t>
            </a:r>
            <a:r>
              <a:rPr b="0" lang="ar-SA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3327652EflRjcdJyE_ph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7800" y="380880"/>
            <a:ext cx="35053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لأنه قد ولد لنا وُلدٌ أُعطِيَ لنا ابنٌ فصارتِ الرئاسةُ على كتِفِهِ  دُعِيَ اسمُهُ عجيباً م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ش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اً إلهاً جباراً أبا الأبدِ رئيسَ السلامِ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13843cCRujYBHua_ph" descr=""/>
          <p:cNvPicPr/>
          <p:nvPr/>
        </p:nvPicPr>
        <p:blipFill>
          <a:blip r:embed="rId1"/>
          <a:stretch/>
        </p:blipFill>
        <p:spPr>
          <a:xfrm>
            <a:off x="0" y="0"/>
            <a:ext cx="5877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19920" y="304920"/>
            <a:ext cx="312408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إلهُنا الذي انتظرناهُ وافانا      وهو يُخَلِّصُ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الذي انتظرناهُ قد أتانا    فلنبتهج ونفرح بخلاصِهِ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04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286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NBRSO017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4952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9880" y="228600"/>
            <a:ext cx="5334120" cy="70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هلموا نستقي المياهَ من ينابيعِ الخلاصِ          هلموا نست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إعترفوا للرب     نعترف ل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أدعوا باسمِه       ندعو باسمِ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أخبروا في الشعوبِ بأعمالِه               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  نُـخـبــِـــر</a:t>
            </a:r>
            <a:r>
              <a:rPr b="0" lang="ar-SA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554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أشيدوا له فقد أتى عظائم رنموا يا سما السموات رنمي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3548985bBMXFMRStl_ph" descr=""/>
          <p:cNvPicPr/>
          <p:nvPr/>
        </p:nvPicPr>
        <p:blipFill>
          <a:blip r:embed="rId1"/>
          <a:stretch/>
        </p:blipFill>
        <p:spPr>
          <a:xfrm>
            <a:off x="0" y="1211400"/>
            <a:ext cx="9144000" cy="5646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إهتفي ورنّمي يا ساكِنَةَ صهيون فإن قدوسَ إسرائيلَ في وسَطِكِ عظيم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7:09:10Z</dcterms:created>
  <dc:creator>SUZANNE.MD</dc:creator>
  <dc:description/>
  <dc:language>en-US</dc:language>
  <cp:lastModifiedBy>USER</cp:lastModifiedBy>
  <dcterms:modified xsi:type="dcterms:W3CDTF">2002-12-23T19:51:14Z</dcterms:modified>
  <cp:revision>2</cp:revision>
  <dc:subject/>
  <dc:title>PowerPoint Presentation</dc:title>
</cp:coreProperties>
</file>